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61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708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240" y="159984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560" y="159984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240" y="390852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27560" y="3908520"/>
            <a:ext cx="277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7080" y="390852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599840"/>
            <a:ext cx="4201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61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st-wind.com/" TargetMode="External"/><Relationship Id="rId3" Type="http://schemas.openxmlformats.org/officeDocument/2006/relationships/hyperlink" Target="http://www.west-wind.com/weblog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st-wind.com/articles.aps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secure.merchantplus.com/20/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st-wind.com/wwstore" TargetMode="External"/><Relationship Id="rId3" Type="http://schemas.openxmlformats.org/officeDocument/2006/relationships/hyperlink" Target="https://secure.merchantplus.com/20/" TargetMode="External"/><Relationship Id="rId4" Type="http://schemas.openxmlformats.org/officeDocument/2006/relationships/hyperlink" Target="http://www.verisign.com/products/payflow/trial.html" TargetMode="External"/><Relationship Id="rId5" Type="http://schemas.openxmlformats.org/officeDocument/2006/relationships/hyperlink" Target="https://www.paypal.com/us/mrb/pal=T2HZ2XA7RCUCL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tegrating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Electronic Payment Processing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to Web Applications</a:t>
            </a:r>
            <a:br>
              <a:rPr sz="4000"/>
            </a:b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2514600" y="3921120"/>
            <a:ext cx="64008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ick Strah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st Wind Technolog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west-win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west-wind.com/weblo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Web Site Integration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r shopping cart handles shopping experi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rs use your car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i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ou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er their user informa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er Credit Card Inf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 pass off Credit Card Processing to Gatew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r code fires off a call to the Gateway AP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ateway processes the Credit Card Transa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turns a result code to you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all happens behind the scenes – ie. user doesn't see U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 confirm the ord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f successful you confirm the ord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ship items or send email confirmation or download lin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rror Dis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f unsucessful you handle error display/manage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fferent gateways vary in their error messag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me like Authorize.NET can be echo'd back directl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Online or Offline Processing?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line Process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rders are processed immediately as user work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mediate feedback to us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products are electronic – immediate 'shipment'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mediate failure feedback: You can let the use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now when it fails and have them correct and ret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90% of CC failures are invalid user input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tential for frau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fline Process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re secure – you get a chance to review ord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metimes required if additional checks need to be perform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ample: Software Updates might require verifi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x and Mat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low automatic processing for straight ite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ld orders that have 'special' items for verifi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reate a Credit Card Processing clas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CC processing out of the front end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nces are you will re-use it in multiple plac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ample: Web app and Windows Desktop both use CC process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nces are you will switch providers over the yea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reate a front end class that provides provider abstra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C information is fairly uniform across provi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ou send the same basic set of inform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ing between providers is usef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ass interface simplifies setting up a new provi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cProcessing Base cla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ides the base interface for all proper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ide specific implmentations for each provi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cAuthorizeNet, ccPayFlowPro, ccLinkPoint et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redit Card Capture Security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ver, ever redisplay full card to user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 can capture cards and store the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you need to redisplay always trim off the end  or use *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k for card security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ize card fraud of stolen CC numb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it often reduces your merchant 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n't hold on to CC numb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ce processing is done and approved you can get rid of car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you need to issue credits (the only reason you may need a card again), ask for the card again from custom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you do hold on to card numbers, encrypt th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What about PayPal?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yPal's not a merchant provi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ney transfers into your PayPal accou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ut it requires users to have a PayPal accou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od choice for starting out and small busin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t's a very economical and quick way to get started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 startup fe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pproval process is eas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ou only pay a percentage of your sale – no other fees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full Automation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quires you go through the PayPal Web si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its your site, goes to PayPal, then retur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mewhat unprofession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kes some work to integrate well into existing sit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eals to many custom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 need to give you a credit car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ou don't handle Credit Cards – less risk for yo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ny people have accumulated PayPal money in their accou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Integrating PayPal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API, only HTML based redirection inter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s you go through the PayPal Web si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its your site, goes to PayPal, then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mewhat unprofess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s some work to integrate into existing s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't be isolated as 'business process'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't be made completely gener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s mixing UI logic and business log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't be used from a desktop appl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s HTML interfa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o-validation requires a Web Server Callback (IP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914400"/>
            <a:ext cx="2666880" cy="2819520"/>
          </a:xfrm>
          <a:custGeom>
            <a:avLst/>
            <a:gdLst>
              <a:gd name="textAreaLeft" fmla="*/ 97560 w 2666880"/>
              <a:gd name="textAreaRight" fmla="*/ 2569320 w 2666880"/>
              <a:gd name="textAreaTop" fmla="*/ 97560 h 2819520"/>
              <a:gd name="textAreaBottom" fmla="*/ 2721960 h 2819520"/>
            </a:gdLst>
            <a:ahLst/>
            <a:rect l="textAreaLeft" t="textAreaTop" r="textAreaRight" b="textAreaBottom"/>
            <a:pathLst>
              <a:path w="21600" h="22836">
                <a:moveTo>
                  <a:pt x="2699" y="0"/>
                </a:moveTo>
                <a:arcTo wR="2699" hR="2699" stAng="16200000" swAng="-5400000"/>
                <a:lnTo>
                  <a:pt x="0" y="20137"/>
                </a:lnTo>
                <a:arcTo wR="2699" hR="2699" stAng="10800000" swAng="-5400000"/>
                <a:lnTo>
                  <a:pt x="18901" y="2283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der Form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myserver.com</a:t>
            </a:r>
            <a:br>
              <a:rPr sz="1600"/>
            </a:b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orderform.a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kes order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eates own total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s info to PayP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ows completion, bu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ould not confirm o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838080"/>
            <a:ext cx="274320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81"/>
              </a:gs>
              <a:gs pos="100000">
                <a:srgbClr val="0000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yP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yment 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www.paypa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ows payment Form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directs to URL on your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600200"/>
            <a:ext cx="281952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PayPal Payments</a:t>
            </a: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1219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irects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00400" y="2470320"/>
            <a:ext cx="2743200" cy="838080"/>
          </a:xfrm>
          <a:prstGeom prst="line">
            <a:avLst/>
          </a:prstGeom>
          <a:ln w="127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267080"/>
            <a:ext cx="2666880" cy="16002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00000"/>
              </a:gs>
              <a:gs pos="100000">
                <a:srgbClr val="cc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PN Confirm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myserver.com</a:t>
            </a:r>
            <a:br>
              <a:rPr sz="1600"/>
            </a:b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PayPalConfirmation.a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visual pag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rms order to PayP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ows you to fulfil o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616600">
            <a:off x="3809880" y="24382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irects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43440" y="42260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 P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657600"/>
            <a:ext cx="274320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9d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yP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PN Confi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www.paypa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ally activ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Ts to URL on your si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ecks confi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743200"/>
            <a:ext cx="0" cy="914400"/>
          </a:xfrm>
          <a:prstGeom prst="line">
            <a:avLst/>
          </a:prstGeom>
          <a:ln w="127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572000"/>
            <a:ext cx="2971800" cy="0"/>
          </a:xfrm>
          <a:prstGeom prst="line">
            <a:avLst/>
          </a:prstGeom>
          <a:ln w="127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05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 P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448240"/>
            <a:ext cx="297180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44696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494480" cy="6153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458200" cy="5213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Rick Strahl – Who am I?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520" y="761760"/>
            <a:ext cx="6782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ident West Wind Technologie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Maui, Hawaii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Developer Tools Vendo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Specialty software development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Training and mentoring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eb and Enterprise Developmen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st Wind HTML Builder  (Documentation System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st Wind Web Store (e-Commerc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st Wind Web Connection (Web Framework for FoxPr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crosoft MV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C#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orking with Microsoft tech for 15+ year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-Publisher of CoDe Magaz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Over 75 magazine articl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Internet Applications with VFP 6.0 (Hentzenwerke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Large .NET article white paper archive at</a:t>
            </a:r>
            <a:br>
              <a:rPr sz="1500"/>
            </a:br>
            <a:r>
              <a:rPr b="0" lang="en-US" sz="15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west-wind.com/articles.aps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90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7391160" cy="632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ummary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your home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eck rates and read the fine print in contr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ware of hidden fe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st your set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st your setup thouroughly before going l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advantage of test gatew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recommendat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 use Authorize.NET with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MerchantPl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orize.NET API is easiest to integrate (no setup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od rates, low fees, fast and good customer serv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d no – they don't pay me for this &lt;g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Resource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ve Sto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west-wind.com/wwstore</a:t>
            </a:r>
            <a:br>
              <a:rPr sz="1600"/>
            </a:b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mplified Sample provided on your C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orize.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Merchant Plu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ice: $14.95/month + $9.95 Statement Fee, Free setup, $.05 per transaction + Merchant Percentages/Fe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yFlow P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Direct Sign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ice: $60/month, $249 setup, $.10 per transaction + Merchant Percentag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nkPoi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vailable with 'merchant packages'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vailable from many bank internet packag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ouldn't recommend as first choice &lt;g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yP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Direct Sign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 startup fees, no monthly fe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centages on purcha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What we'll cover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oes the process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payments flow through the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you sign 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does it cos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gration into your s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ume you handle shopping cart log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nsparent integ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rs cov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horize.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risign PayFlow P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yP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How online Credit Card Processing works</a:t>
            </a: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914400"/>
            <a:ext cx="449568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Your Web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kes or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s CC info for proces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666880"/>
            <a:ext cx="40388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ateway Process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Internet based AP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s CC info to processing net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(Authorize.NET, Verisign, Linkpoint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4952880"/>
            <a:ext cx="396216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dab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Your Bank Accou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s pay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ually after few bus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7160" y="4952880"/>
            <a:ext cx="3957480" cy="12985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redit Card Process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es the actual c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urns response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(NOVA, Wells Fargo, Cynergy, AMEX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114800"/>
            <a:ext cx="762120" cy="838080"/>
          </a:xfrm>
          <a:prstGeom prst="upArrow">
            <a:avLst>
              <a:gd name="adj1" fmla="val 50000"/>
              <a:gd name="adj2" fmla="val 27492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114800"/>
            <a:ext cx="83844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11480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1905120"/>
            <a:ext cx="762120" cy="761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905120"/>
            <a:ext cx="83844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666880"/>
            <a:ext cx="396216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erchant Service Prov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ment clearing house ba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s payments, handles dispu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(PaymentTech, Cynergy, CardServices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304812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1814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dddddd">
              <a:alpha val="91000"/>
            </a:srgbClr>
          </a:solidFill>
          <a:ln w="9360">
            <a:solidFill>
              <a:srgbClr val="ff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c"/>
                </a:solidFill>
                <a:latin typeface="Arial"/>
              </a:rPr>
              <a:t>Amex</a:t>
            </a:r>
            <a:br>
              <a:rPr sz="1200"/>
            </a:br>
            <a:r>
              <a:rPr b="0" lang="en-US" sz="1200" spc="-1" strike="noStrike">
                <a:solidFill>
                  <a:srgbClr val="00005c"/>
                </a:solidFill>
                <a:latin typeface="Arial"/>
              </a:rPr>
              <a:t>Diners et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Who's involved in a Transaction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20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r Web Si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kes the initial order and sends it off for CC Process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ceives confirmation or failure and displays result message to us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andles confirming order and i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teway Servi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vides the 'developer API' front end and Internet Gatewa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y pass off the actual processing to the Processing Network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dit Card Processor Networ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se services handle the processing of car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ypical names here are Nova, Wells Fargo, AMEX, Cynerg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ny smaller clearing house services exist also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rchant Service Provid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cts as Intermediary bank that receives pay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plits merchant percentage off, pays CC company and you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cts as intermediary – deals with issues like Frau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ssues statements to you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r Ban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ceives any approved fund after a few day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Paying the Man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pay each step in the ch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ke sure you do your home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'little' charges add 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ateway Serv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nthly access to the Gatewa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ually pretty cheap ($15-3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me per transaction charg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rchant Service Provi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nthly minimum (includes some number of transaction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 transaction fee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US $.20-.40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ministration/Statement fe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dit Card Compan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rchant percentage based on transa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isa/MasterCard: 2.0-2.5% (consumer) or 3.5-4.0% (bus/int'l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mex: Flat 4.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igning up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nd new accou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ou have choic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asiest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gn up with a provider like MerchantPlus or any of the large resellers and let them provide you with processor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ing bank accou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our bank likely works with a specific CC Processing net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en you sign up with a Gateway provider you hav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o make sure that the Gateway supports the net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'Big' or local banks usually use Nova, Wells Farg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EX, Discover, Diners a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y have their own networks and require separate sign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y transfer directly to your ban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rge you merchant % directl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Pick a Gateway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ts of Gateways avail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ny more are resold by resell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sellers can provide single signup solu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e careful of resellers – they usually add no value only $$$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 of the more common o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uthorize.N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Verisign PayFlow Pr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LinkPoi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ccessPoi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aymentNet, SecurePay, WorldPay, iTransact, CyberSour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e R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tes vary often significant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ce signed up you pay a monthly gateway fe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lus a small transaction for some provid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me 'Providers' like Verisign do one-stop setu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provide both gateway and merchant service as packag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Gateway Providers</a:t>
            </a:r>
            <a:endParaRPr b="1" lang="en-US" sz="2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orize.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ery easy to integr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ou simply POST values to the serv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ad comma delimited respons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ery fas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3-5 second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eap - $15 a month / free setup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$175 cancellation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erisign PayFlow P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 or C++ based AP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est accessed via COM Intero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ery reliable and fast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$60 a month  / $249 setu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nkPoi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igh risk provider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ually more expensiv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clusively resold through 3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arty provider – you mileage may va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ften required by 'big banks' for Internet busines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 they perceive it as 'high risk'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ery tight credit validation – causes many card decli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1:24:08Z</dcterms:created>
  <dc:creator>rstrahl</dc:creator>
  <dc:description/>
  <dc:language>en-US</dc:language>
  <cp:lastModifiedBy>rstrahl</cp:lastModifiedBy>
  <dcterms:modified xsi:type="dcterms:W3CDTF">2005-08-05T00:09:50Z</dcterms:modified>
  <cp:revision>190</cp:revision>
  <dc:subject/>
  <dc:title>ASP.Net tips and Tricks</dc:title>
</cp:coreProperties>
</file>