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61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708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240" y="159984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560" y="159984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240" y="390852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27560" y="390852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708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61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st-wind.com/" TargetMode="External"/><Relationship Id="rId3" Type="http://schemas.openxmlformats.org/officeDocument/2006/relationships/hyperlink" Target="http://www.west-wind.com/weblog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st-wind.com/articles.aps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An Introduction to RSS</a:t>
            </a: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2514600" y="3921120"/>
            <a:ext cx="64008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ick Strah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st Wind Technolog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west-win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west-wind.com/weblo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Rick Strahl – Who am I?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520" y="761760"/>
            <a:ext cx="6782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ident West Wind Technologie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Maui, Hawaii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Developer Tools Vendo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Specialty software development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Training and mentoring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eb and Enterprise Developmen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st Wind HTML Builder  (Documentation System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st Wind Web Store (e-Commerc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st Wind Web Connection (Web Framework for FoxPr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crosoft MV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C#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orking with Microsoft tech for almost 20 year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-Publisher of CoDe Magaz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Over 75 magazine articl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Internet Applications with VFP 6.0 (Hentzenwerke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Large .NET article white paper archive at</a:t>
            </a:r>
            <a:br>
              <a:rPr sz="1500"/>
            </a:br>
            <a:r>
              <a:rPr b="0" lang="en-US" sz="15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west-wind.com/articles.aps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What is RS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l Simple Sy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sed on a Publisher/Subscriber mod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 the name suggests: A very simple XML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sy to create and easy to cons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ll Model – Subscriber asks for data at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blis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lish 'summary' cont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ent is published in RSS Fee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mary publish medium: Web Lo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t RSS can be used for many purposes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scrib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bscribe to RSS Feeds published by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ll the publishers feed at scheduled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 RSS Readers to view the cont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Advantages of RS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decide what content to subscrib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flexible than emai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sier to manage than emai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 decide when to read or deal with 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sy to a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ple XML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sy to cons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adily available – RSS has become commo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ome Good Reader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ed Dem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ck Bradbury (TopEdit, HomeSite auth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ce interface light weight runs we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sG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utlook Plug-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ce only because it runs in Outl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therwise pretty spartan appl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is horr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Rea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arpReade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ssBandit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Open Source C#.NE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Publishing RS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mary Publishing Technology: Blo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b Logs auto-publish content via RS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riving force behind the RSS move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b Logs act as an easy Content Management Sys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SS is more useful than it seems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ts of different applica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bLog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ws Announcem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ssage Boards – replace list serv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ug Report Interface – see updat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thing that people might want to subscribe t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ting R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o it yoursel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gain – it's easy to do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mple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ust write out XML string cont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ke sure you write out valid XML though (wwXml.AddElement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nsuming RS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SS is for Aggreg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bine content from multiple 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ad multiple feeds and display in one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nally served – externally ser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 act as a sort of Content Manag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ing your own rea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viding news to your applic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1:24:08Z</dcterms:created>
  <dc:creator>rstrahl</dc:creator>
  <dc:description/>
  <dc:language>en-US</dc:language>
  <cp:lastModifiedBy>rstrahl</cp:lastModifiedBy>
  <dcterms:modified xsi:type="dcterms:W3CDTF">2005-08-09T20:12:00Z</dcterms:modified>
  <cp:revision>197</cp:revision>
  <dc:subject/>
  <dc:title>ASP.Net tips and Tricks</dc:title>
</cp:coreProperties>
</file>