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384088" cy="698341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9B2A-AEAF-4DDD-BBCE-9B7498EC6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92422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8840" y="3986640"/>
            <a:ext cx="92422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AD25-62D2-414E-B98B-F53C712A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546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840" y="398664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54640" y="398664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8CCD-6012-4B3F-8BC9-276B48CD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43640" y="187128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68800" y="187128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8840" y="398664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43640" y="398664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868800" y="3986640"/>
            <a:ext cx="297576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B40-AD92-48F6-A3D7-55B6F144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8840" y="1871280"/>
            <a:ext cx="92422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A65-603E-4328-A672-8B64C687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92422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4009-C9A0-46AE-8CC0-E39924193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45100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54640" y="1871280"/>
            <a:ext cx="45100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1B0-A598-4332-9E6C-0FF212F36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7F1-2AC5-4C8C-960E-A1A8BFF38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19200" y="277920"/>
            <a:ext cx="9531360" cy="54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E1CA-020B-4360-9764-6DBD4E34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54640" y="1871280"/>
            <a:ext cx="45100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8840" y="398664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ADDF-67B0-4F3B-AA6D-DCB72B3A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45100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546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54640" y="398664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411B-BFC9-4948-AB65-7921C042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88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640" y="1871280"/>
            <a:ext cx="45100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8840" y="3986640"/>
            <a:ext cx="9242280" cy="193140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9FB5-BB71-4108-97AB-46C0CA99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532560" y="3692520"/>
            <a:ext cx="5851440" cy="329076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44360" y="120600"/>
            <a:ext cx="10439280" cy="1606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9200" y="277920"/>
            <a:ext cx="9531360" cy="116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URW Gothic L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18840" y="1871280"/>
            <a:ext cx="924228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9200" y="6362640"/>
            <a:ext cx="2882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235040" y="6362640"/>
            <a:ext cx="392436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879040" y="6362640"/>
            <a:ext cx="2882880" cy="4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0008D7-3016-4B3E-ABE6-1F6D98CD8F72}" type="slidenum">
              <a:rPr b="0" lang="de-D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michael@realtimedata.com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Who am I?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ichael Cumm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wner Real Time Data In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rted with FoxPro in Dos 199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rote my first Socket Server 199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ought Stock Market Data Service Company 20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ata Service has Real Time and End of Day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3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(TCP Socket Servers, and HTTP Server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We write custom programs for Web, Desktops, Servers, Tablet and Phone apps for iOS and Andro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0">
              <a:lnSpc>
                <a:spcPct val="93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Show Me the Code!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elloworld.js:  (Complete Web Server in Nod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var http = require('http'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http.createServer(function(req, res) {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res.writeHead(200, {'Content-Type' : 'text/plain'}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res.end('Hello World!\n'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Courier New"/>
              </a:rPr>
              <a:t>}).listen(1337, '127.0.0.1'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79640" y="6119640"/>
            <a:ext cx="561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rom 'Node: Up and Running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's HTTP Server is Low Level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provides a very low level HTT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You are responsible for everyth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You have to write HTTP h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You are responsible for URL rou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It would take a long time to make a useful site if you did it using what comes inside node itself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ow to get a more advanced HTTP ser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has Modul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pm = Node Package Manager at npmjs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63640" y="2376360"/>
            <a:ext cx="7632720" cy="4176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87640" y="3959280"/>
            <a:ext cx="2052720" cy="4316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has a Community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Github hosts  thousands of projects  github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36720" y="2448000"/>
            <a:ext cx="8856720" cy="31384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714840" y="4751280"/>
            <a:ext cx="3989160" cy="64764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has Momentum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24000" y="1728720"/>
            <a:ext cx="7632720" cy="45482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11200" y="2952720"/>
            <a:ext cx="1828800" cy="432000"/>
          </a:xfrm>
          <a:prstGeom prst="ellipse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Express is a Cool HTTP Server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0000"/>
          </a:bodyPr>
          <a:p>
            <a:pPr marL="388440" indent="-2912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Express handl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ndard HTTP Head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tic Pages &amp; Template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uting URL to your page or you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xpress is more primitive than IIS or Ap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xpress gives you more control and responsibility than IIS or Ap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$ sudo npm install -g ex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7240" indent="-2916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(Node Package Manager) („-g“ = global install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Mini Express HTTP App </a:t>
            </a:r>
            <a:br>
              <a:rPr sz="4100"/>
            </a:b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Traditional Request &gt; Response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3680" bIns="0" anchor="t">
            <a:normAutofit/>
          </a:bodyPr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Courier New"/>
              </a:rPr>
              <a:t>helloexpress.j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express = require('express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app = expres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pp.get('/', function(req, res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res.send("Hello Express!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app.listen(1338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console.log("Express on port 1338"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79640" y="6119640"/>
            <a:ext cx="561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rom 'Node: Up and Running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Real Time Web Sit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al Time Web Sites ne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atic Pages and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emplate Pa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Live Updates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xpress has all that, except the live upda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Real Time Web Sit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Live C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Live Stock Market 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Live Updates – Users see changes instant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essage based, not pol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 traffic if no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o constant polling database for up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upports thousands of live connected client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Challenges for Real Time Sit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TTP: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onnect &gt; Request &gt; Response &gt; Disconn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e cannot push real time updates on a disconnected socke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Faking it by client polli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TTP connect/disconnect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ach client connection consumes resources on serv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ypically reads from a database and expands a templa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44720" y="287280"/>
            <a:ext cx="1000764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?</a:t>
            </a:r>
            <a:br>
              <a:rPr sz="4100"/>
            </a:b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Real-Time Web Apps?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36720" y="2663640"/>
            <a:ext cx="1089792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s Node a programming languag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s Node a web ser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s Node a socket server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Client Polling is a Resource Hog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onsumes and discards socke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Each connection consumes and discards significant server memor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building the content from a database query and a template file keeps the disk bus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ost polling requests don't get new data anyh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TCP Socket is Better than Polling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Keep an open tcp socket to push updat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Plain TCP Socket on the server does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pen the connection and keep it op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asy to code a TCP server with Node (but there is a better w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Easy enough to debug with Telnet cli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Browers and browser javascript do not have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2948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Various work-arounds like flash sockets make a usable socket in browser javascript. (but there is a better wa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Simple Standalone TCP Server</a:t>
            </a:r>
            <a:br>
              <a:rPr sz="4100"/>
            </a:b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(Raw TCP Sockets)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 fontScale="89000"/>
          </a:bodyPr>
          <a:p>
            <a:pPr marL="38412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tcpserver.js  (can accept telnet conne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var net = require('net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var chatServer = net.createServ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tServer.on('connection'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function(clie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ient.write('Hi!\n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ient.write('Bye!\n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lient.end();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hatServer.listen(9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console.log("Listening on port 9000"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412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08000" y="6421320"/>
            <a:ext cx="561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marL="216000" indent="-216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From 'Node: Up and Running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The Better Way!</a:t>
            </a:r>
            <a:br>
              <a:rPr sz="4100"/>
            </a:b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.js + Socket.io 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1000"/>
          </a:bodyPr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TML5 has WebSockets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t all browsers support WebSock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ocket.io is WebSocket-like API for many/most browsers and devices regardless if the browser supports HTML5 WebSockets or no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ocket.io works in iOS and Android Phones, Tablets, Mac, 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92760" indent="-2944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ocket.io and Node Web Server can share the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same socket and port on the serv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Chat Server Example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82000"/>
          </a:bodyPr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hat Servers are the archetype of real-time server.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f you can code a chat server, you can code a real-time web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hat Server example files: app.js and index.htm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ourtesy of Michael Muhkin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ttp://psitsmike.com/2011/09/node-js-and-socket-io-chat-tutorial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hanges for Express 3 Courtesy of Michael Moeller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ttp://stackoverflow.com/questions/14284668/simple-express-3-x-socket-io-c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HTTP and TCP Sharing the Same Socket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wo protocols sharing the same socket and port, using Express and Socket.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express = require('express'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http = require('http'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app = express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server = http.createServer(ap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var io = require('socket.io').listen(serve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urier New"/>
              </a:rPr>
              <a:t>server.listen(8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56360" y="3816360"/>
            <a:ext cx="42084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Arial"/>
              </a:rPr>
              <a:t>Socket.io eavesdropping on http serv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398560" y="4032360"/>
            <a:ext cx="1659240" cy="57600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79640" y="5975280"/>
            <a:ext cx="417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de from Muhkin and Mo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Serve the HTML Page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pp.get() sets up a URL event hand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s.sendfile() sends out a file from dis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app.get('/', function (req, re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res.sendfile(__dirname + '/index.html'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urier New"/>
              </a:rPr>
              <a:t>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5975280"/>
            <a:ext cx="417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de from Muhkin and Mo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Set Up each Socket on 'connection' event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ew sockets arrive raw – we have to assign properties and event handl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io.sockets = collection of sock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newly connected socket is passed as a parameter to the 'connection' handl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io.sockets.on('connection', function (</a:t>
            </a:r>
            <a:r>
              <a:rPr b="0" lang="de-DE" sz="2200" spc="-1" strike="noStrike">
                <a:solidFill>
                  <a:srgbClr val="ff0000"/>
                </a:solidFill>
                <a:latin typeface="Courier New"/>
              </a:rPr>
              <a:t>socket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) {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4000" y="4319640"/>
            <a:ext cx="4824360" cy="7207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79640" y="5975280"/>
            <a:ext cx="417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de from Muhkin and Mo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Server Side Messages</a:t>
            </a:r>
            <a:br>
              <a:rPr sz="4100"/>
            </a:b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Messages are Event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For our simple chat server, each socket on the server only needs to handle 3 messa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'sendchat', 'adduser', 'disconnect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ttach an anonymous function to each message even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socket.on('sendchat', function (data) {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      io.sockets.emit('updatechat',  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             socket.username, data); }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socket.on('adduser', function(username){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socket.on('disconnect', function(){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79640" y="5975280"/>
            <a:ext cx="417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de from Muhkin and Mo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Client Side Messag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6000"/>
          </a:bodyPr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lient only handles 3 message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29080" indent="-31104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'connect', 'updatechat', 'updateusers'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'connect' sends an 'adduser' message to server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socket.on('connect', function(){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    socket.emit('adduser', prompt("What's your 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                                         name?"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'updatechat' and 'updateusers' use some jQuery magic to append content to a div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Courier New"/>
              </a:rPr>
              <a:t>$('#conversation').append(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4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079640" y="5975280"/>
            <a:ext cx="417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Code from Muhkin and Mo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runs Javascript 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7000"/>
          </a:bodyPr>
          <a:p>
            <a:pPr marL="4186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is a command line program that runs your javascript. Your javascript has full access to everything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Javascript in the browser is sandboxed and canno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pen Fi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Open Soc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7720" indent="-31428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ccess the Operating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for Web Apps!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is total overkill for a simple brochure si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+ Socket.io overcomes HTTP limitations of the request &gt; response mod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days of Windows apps being 'richer' than web apps are OVE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Browser is a big canvas to draw whatever you can dream u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References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82000"/>
          </a:bodyPr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'Node: Up and Running' Tom Hughes-Croucher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O'REILLY 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'JavaScript: The Good Parts' Douglas Crockford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O'REILLY Boo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hat Server courtesy of Michael Muhkin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http://psitsmike.com/2011/09/node-js-and-socket-io-chat-tutorial/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3880" indent="-26532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Changes for Express 3 Courtesy of Michael Moeller  http://stackoverflow.com/questions/14284668/simple-express-3-x-socket-io-ch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Contact Me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Michael Cummings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al Time Data Inc.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ound Rock, Texas 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512-903-3180</a:t>
            </a:r>
            <a:br>
              <a:rPr sz="3000"/>
            </a:br>
            <a:r>
              <a:rPr b="0" lang="de-DE" sz="3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michael@realtimedata.com</a:t>
            </a:r>
            <a:br>
              <a:rPr sz="3000"/>
            </a:b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tdmobile.com, realtimedata.c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Javascript Runs in the Browser, Right?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9200" y="237636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Javascript runs in a scripting eng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Javascript can run anywh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You could add a Javascript engine to your Windows programs if you wan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Javascript is a Pain in the A**, Right?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6000"/>
          </a:bodyPr>
          <a:p>
            <a:pPr marL="41436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DOM – Document Object Model is not identical between browsers, or browser ver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Javascript interpreters are different between browsers and vers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The real pain is writing all the work-arounds to make it work in all brows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14360" indent="-31068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runs on the server, and has none of that pa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Javascript is Beautiful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9200" y="190800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And it is ugly at the same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e have all seen beautiful, expressive languages with warts.  This is another o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Javascript's Anonymous Functions are a great fit for the Async nature of No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Read 'Javascript: the Good Parts'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3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19200" y="277920"/>
            <a:ext cx="5068800" cy="6418080"/>
          </a:xfrm>
          <a:prstGeom prst="rect">
            <a:avLst/>
          </a:prstGeom>
          <a:ln w="9360">
            <a:solidFill>
              <a:srgbClr val="333333"/>
            </a:solidFill>
            <a:round/>
          </a:ln>
        </p:spPr>
      </p:pic>
      <p:sp>
        <p:nvSpPr>
          <p:cNvPr id="58" name=""/>
          <p:cNvSpPr/>
          <p:nvPr/>
        </p:nvSpPr>
        <p:spPr>
          <a:xfrm>
            <a:off x="619200" y="277920"/>
            <a:ext cx="1440" cy="6418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Ok, So What is Node?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9200" y="187164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is a command line program that runs your Javascript using Google's super fast V8 engin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provides all the stuff that javascript in the browser does not allow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File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Database Ac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TCP Sockets and Server Obj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049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9200" y="277560"/>
            <a:ext cx="953280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100" spc="-1" strike="noStrike">
                <a:solidFill>
                  <a:srgbClr val="ffffff"/>
                </a:solidFill>
                <a:latin typeface="URW Gothic L"/>
              </a:rPr>
              <a:t>Node is Magical</a:t>
            </a:r>
            <a:endParaRPr b="0" lang="en-US" sz="4100" spc="-1" strike="noStrike">
              <a:solidFill>
                <a:srgbClr val="ffffff"/>
              </a:solidFill>
              <a:latin typeface="URW Gothic 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9200" y="2232000"/>
            <a:ext cx="92440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664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is high performance in few lines of co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Node runs on Linux, Mac, Windows and Toasters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05720" indent="-304200">
              <a:lnSpc>
                <a:spcPct val="93000"/>
              </a:lnSpc>
              <a:spcAft>
                <a:spcPts val="13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With node, you can writ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30456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mand line util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30456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HTTP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30456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ocket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30456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Combined HTTP / Socket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1800" indent="-304560">
              <a:lnSpc>
                <a:spcPct val="93000"/>
              </a:lnSpc>
              <a:spcAft>
                <a:spcPts val="1049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eal Time Web Si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36720" y="6421320"/>
            <a:ext cx="6102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* http://voodootikigod.com/nodebots-the-rise-of-js-robotic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7T01:00:00Z</dcterms:created>
  <dc:creator>Michael Cummings</dc:creator>
  <dc:description/>
  <dc:language>en-US</dc:language>
  <cp:lastModifiedBy>Michael Cummings</cp:lastModifiedBy>
  <dcterms:modified xsi:type="dcterms:W3CDTF">2013-03-22T01:41:14Z</dcterms:modified>
  <cp:revision>22</cp:revision>
  <dc:subject/>
  <dc:title/>
</cp:coreProperties>
</file>