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848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612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912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1912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612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94848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612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780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1912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780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1912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612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553080" y="6377040"/>
            <a:ext cx="25909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33720" y="5972040"/>
            <a:ext cx="4771800" cy="885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Integrating XFRX into your VFP app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Barbara Peisch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Peisch Custom Softwar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380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ei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Report Object Propertie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c6a"/>
                </a:solidFill>
                <a:latin typeface="Trebuchet MS"/>
              </a:rPr>
              <a:t>oRpt – Object reference to third party tool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0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c6a"/>
                </a:solidFill>
                <a:latin typeface="Trebuchet MS"/>
              </a:rPr>
              <a:t>cReportMode - Output tool to use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0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c6a"/>
                </a:solidFill>
                <a:latin typeface="Trebuchet MS"/>
              </a:rPr>
              <a:t>cDefaultOutputFile – Default path and output file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0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c6a"/>
                </a:solidFill>
                <a:latin typeface="Trebuchet MS"/>
              </a:rPr>
              <a:t>lDontConfirmOutput - .T. if output dialog should not show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0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c6a"/>
                </a:solidFill>
                <a:latin typeface="Trebuchet MS"/>
              </a:rPr>
              <a:t>cPrinter – Native mode only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0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c6a"/>
                </a:solidFill>
                <a:latin typeface="Trebuchet MS"/>
              </a:rPr>
              <a:t>cOldPrinter – Native mode only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0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c6a"/>
                </a:solidFill>
                <a:latin typeface="Trebuchet MS"/>
              </a:rPr>
              <a:t>lCancelProcessing - .T. if user canceled from output dialog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0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c6a"/>
                </a:solidFill>
                <a:latin typeface="Trebuchet MS"/>
              </a:rPr>
              <a:t>lXFRXBookmarks – Flag indicating if bookmarks should show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0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c6a"/>
                </a:solidFill>
                <a:latin typeface="Trebuchet MS"/>
              </a:rPr>
              <a:t>cProgressMess – Optional message to display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0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c6a"/>
                </a:solidFill>
                <a:latin typeface="Trebuchet MS"/>
              </a:rPr>
              <a:t>cOutput – “PREVIEW”, “PRINT”, “PDF”, etc.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  <a:p>
            <a:pPr marL="325800" indent="-325800">
              <a:lnSpc>
                <a:spcPct val="105000"/>
              </a:lnSpc>
              <a:spcBef>
                <a:spcPts val="55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c6a"/>
                </a:solidFill>
                <a:latin typeface="Trebuchet MS"/>
              </a:rPr>
              <a:t>aRpts2Run – Array of queued reports</a:t>
            </a:r>
            <a:endParaRPr b="0" lang="en-US" sz="2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Bookmark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Available in PDF, HTML and Preview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Can specify whether or not to show bookmarks at runtim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Specified in a report object’s comment: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#UR OUTLINE="Score Sheet“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Can turn bookmarks on or off with SetOtherParams("PRINT_BOOKMARKS",lVar)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where lVar is .T. or .F.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Bookmarks in HTML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tOtherParams has third parameter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nding 0 will show both page number bookmarks and the ones you’ve defined in your reports (default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nding 1 will show only the bookmarks you’ve defined in your repor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nding 2 will show only the page number bookmark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Bookmarks in Preview Container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4c6a"/>
                </a:solidFill>
                <a:latin typeface="Trebuchet MS"/>
              </a:rPr>
              <a:t>Uses ibook property to determine bookmark display status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4c6a"/>
                </a:solidFill>
                <a:latin typeface="Trebuchet MS"/>
              </a:rPr>
              <a:t>Options: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able bookma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able bookmarks but hide them (users need to click on the bookmark button to see them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able bookmarks, always showing th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able bookmarks, but show or hide them automatically based on whether or not there are bookma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Scripts in XFRX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Different ways to implement script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G based scrip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amed scripts (only run from a rectangl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ge bound scrip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ctangle based scrip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n reference a PRG script (named scrip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n have script code embedded in rectang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cripts utilize the XFRX Draw method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Implementing PRG based scripts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reate a class for your script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e MyXFRXScripts class in main.pr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all RegisterScript method after calling SetParams method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e my RegisterXFRXScripts method which will register all scripts found in your cla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Script Limitation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ext rotation only shows in PDF and when printing from the preview container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otation will soon appear in preview containe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No way to specify “Last” for page bound script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The XFRX Preview Container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an use your own form with the XFRX Container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Recommend instantiating the XFRX Preview form, which already has the container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-32904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Using the Report Class provided with this session makes the preview more generic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29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Southwest Fox Update Pag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www.swfox.ne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s session will have web update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Please remember to fill out your evaluation.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Who Am I?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Owner of Peisch Custom Softwar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Returning SW Fox speaker and former speaker at GLGDW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Microsoft MVP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Tech Editor for WebRAD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Former columnist for CoDe and FoxTalk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Developer using Fox since 1988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What We’ll Cover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The basics of getting XFRX working with your app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 of a report clas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A few of the output options with XFRX (PDF, DOC, HTML, Preview)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Use of XFRX scripts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Bookmarks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Introduction to the preview container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We Won’t Cover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In depth detail of all the features of XFRX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ome of the output option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mage fi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TF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What is XFRX?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party tool for creating a wide variety of output format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Includes a royalty free runtim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Option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ngle outpu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 output forma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urce c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onsideration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4c6a"/>
                </a:solidFill>
                <a:latin typeface="Trebuchet MS"/>
              </a:rPr>
              <a:t>For Word output, must have Word 2000 or later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4c6a"/>
                </a:solidFill>
                <a:latin typeface="Trebuchet MS"/>
              </a:rPr>
              <a:t>May need to configure McAfee so it doesn’t complain about a malicious script (Word and Excel only)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5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4c6a"/>
                </a:solidFill>
                <a:latin typeface="Trebuchet MS"/>
              </a:rPr>
              <a:t>Many commands for using XFRX in VFP 9 are different from previous versions</a:t>
            </a:r>
            <a:endParaRPr b="0" lang="en-US" sz="30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y demos are for VFP 9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My history with XFRX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Originally used native VFP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rst tried Mind’s Eye Report Engin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reated my Report Obje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RE had problems with some repor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nd XFRX and haven’t looked back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XFRX setup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84c6a"/>
                </a:solidFill>
                <a:latin typeface="Trebuchet MS"/>
              </a:rPr>
              <a:t>Unzip XFRX to the location of your choice</a:t>
            </a:r>
            <a:endParaRPr b="0" lang="en-US" sz="2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84c6a"/>
                </a:solidFill>
                <a:latin typeface="Trebuchet MS"/>
              </a:rPr>
              <a:t>Add the XFRX.fxp (or XFRX.app) to your project</a:t>
            </a:r>
            <a:endParaRPr b="0" lang="en-US" sz="26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84c6a"/>
                </a:solidFill>
                <a:latin typeface="Trebuchet MS"/>
              </a:rPr>
              <a:t>SET PATH to the XFRX directory and XFRXLibs subdirectory</a:t>
            </a:r>
            <a:endParaRPr b="0" lang="en-US" sz="26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loxfrx = EVALUATE([ XFRX("XFRX#LISTENER")]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lnRetval = loxfrx.SetParams("output.pdf",,,,,,"PDF"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IF lnRetval = 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USE MyCursor1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REPORT FORM report1 OBJECT loxfrx NOPAGEEJEC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Use MyCursor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REPORT FORM report2 OBJECT loxfrx NORES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My Report Clas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Allows you to add new report tools without affecting your report cod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Allows you to change the report tool used on-the-fly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Simplest usage of Report Class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Rpt = CREATEOBJECT("DoReports"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Rpt.InitRptMode(OutputClause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t SomeTa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Rpt.DoIt("ReportName1"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Rpt.SendRptToOutput(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1:29:58Z</dcterms:created>
  <dc:creator>3M HIS</dc:creator>
  <dc:description/>
  <dc:language>en-US</dc:language>
  <cp:lastModifiedBy>Barbara Peisch</cp:lastModifiedBy>
  <dcterms:modified xsi:type="dcterms:W3CDTF">2005-09-19T06:52:13Z</dcterms:modified>
  <cp:revision>30</cp:revision>
  <dc:subject/>
  <dc:title>Slide 1</dc:title>
</cp:coreProperties>
</file>