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move the slide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58CC6-D59F-41DE-B0E0-6BD6EA52AA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o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6840" y="394848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96120" y="16002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394848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96120" y="394848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87800" y="16002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19120" y="16002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6840" y="394848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87800" y="394848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19120" y="394848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96120" y="160020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6840" y="38088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96120" y="160020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6840" y="394848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6120" y="16002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96120" y="394848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96120" y="16002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6840" y="394848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6840" y="394848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96120" y="16002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6840" y="394848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96120" y="394848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187800" y="16002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19120" y="16002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6840" y="394848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187800" y="394848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19120" y="394848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96120" y="160020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6840" y="38088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96120" y="160020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6840" y="394848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96120" y="16002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96120" y="394848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96120" y="16002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394848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684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6553080" y="6377040"/>
            <a:ext cx="2590920" cy="48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2"/>
          </p:nvPr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2133720" y="5972040"/>
            <a:ext cx="4771800" cy="8859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rebuchet MS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Devmode.txt" TargetMode="External"/><Relationship Id="rId3" Type="http://schemas.openxmlformats.org/officeDocument/2006/relationships/hyperlink" Target="file:///Demo/Windows.h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28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Using the XFRX Preview Container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33520" y="3048120"/>
            <a:ext cx="807696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c6a"/>
                </a:solidFill>
                <a:latin typeface="Trebuchet MS"/>
              </a:rPr>
              <a:t>Barbara Peisch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84c6a"/>
                </a:solidFill>
                <a:latin typeface="Trebuchet MS"/>
              </a:rPr>
              <a:t>Peisch Custom Software</a:t>
            </a: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9" name=""/>
          <p:cNvSpPr/>
          <p:nvPr/>
        </p:nvSpPr>
        <p:spPr>
          <a:xfrm>
            <a:off x="6858000" y="380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pei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A Real Properties Dialog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YS(1037) with new second parameter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dvantage: Can save settings from VFP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isadvantage: Too many dialog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DocumentProperties API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dvantage: Shows a true properties dialog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isadvantage: Can’t save settings so that you can use them from VFP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XFRX’s _xfPrinterProperties() method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The ultimate solutions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XFRX: New parameter for PrintDocument allows you to send DEVMODE structure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Without XFRX use the SYS(1037) features for reading and writing the settings, but DocumentProperties for displaying the dialog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84c6a"/>
                </a:solidFill>
                <a:latin typeface="Trebuchet MS"/>
              </a:rPr>
              <a:t>Other goodies included with this session</a:t>
            </a:r>
            <a:endParaRPr b="0" lang="en-US" sz="4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PrinterTrays.prg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opulates an array with available printers and a cursor with printer tray informatio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tPrinterProperties.prg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llows programmatic change to printer properti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PrintTest.scx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emo of usage of SetPrinterProperties.prg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Acknowledgments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Martin Haluza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alvin Hsia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John Koziol, Richard Stanton and Lisa Slater Nicholls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Boudewijn Lutgerink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hristian Ehlscheid 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Southwest Fox Update Page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www.swfox.ne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s session will have web updates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Thank You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0" algn="ctr">
              <a:lnSpc>
                <a:spcPct val="125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Please remember to fill out your evaluation.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Who Am I?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c6a"/>
                </a:solidFill>
                <a:latin typeface="Trebuchet MS"/>
              </a:rPr>
              <a:t>Owner of Peisch Custom Software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c6a"/>
                </a:solidFill>
                <a:latin typeface="Trebuchet MS"/>
              </a:rPr>
              <a:t>Returning SW Fox speaker and former speaker at GLGDW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c6a"/>
                </a:solidFill>
                <a:latin typeface="Trebuchet MS"/>
              </a:rPr>
              <a:t>Microsoft MVP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c6a"/>
                </a:solidFill>
                <a:latin typeface="Trebuchet MS"/>
              </a:rPr>
              <a:t>Tech Editor for WebRAD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c6a"/>
                </a:solidFill>
                <a:latin typeface="Trebuchet MS"/>
              </a:rPr>
              <a:t>Former columnist for CoDe and FoxTalk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c6a"/>
                </a:solidFill>
                <a:latin typeface="Trebuchet MS"/>
              </a:rPr>
              <a:t>Developer using Fox since 1988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What We’ll Cover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c6a"/>
                </a:solidFill>
                <a:latin typeface="Trebuchet MS"/>
              </a:rPr>
              <a:t>Some of the features of the XFRX preview container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ookmark option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urning the second toolbar on or off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archin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c6a"/>
                </a:solidFill>
                <a:latin typeface="Trebuchet MS"/>
              </a:rPr>
              <a:t>Some of the challenges of using the preview container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Handling multiple report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copin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rintin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c6a"/>
                </a:solidFill>
                <a:latin typeface="Trebuchet MS"/>
              </a:rPr>
              <a:t>An evolution of the printing process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dvanced concept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Why a preview container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c6a"/>
                </a:solidFill>
                <a:latin typeface="Trebuchet MS"/>
              </a:rPr>
              <a:t>Easily preview multiple reports as if they were one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c6a"/>
                </a:solidFill>
                <a:latin typeface="Trebuchet MS"/>
              </a:rPr>
              <a:t>Search capabilities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c6a"/>
                </a:solidFill>
                <a:latin typeface="Trebuchet MS"/>
              </a:rPr>
              <a:t>Mix portrait and landscape reports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c6a"/>
                </a:solidFill>
                <a:latin typeface="Trebuchet MS"/>
              </a:rPr>
              <a:t>Why not a PDF with the free reader?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on’t have to install reader on all computer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on’t have to deal with users saving PDF files and filling up hard driv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on’t want it to be quite so easy to e-mail report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Which form class?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an use your own form class with the Container Class on i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ocumentation says to add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굴림"/>
              </a:rPr>
              <a:t>thisform.cntXFRX.clearLink() to the Destroy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  <a:ea typeface="굴림"/>
              </a:rPr>
              <a:t>Container won’t resize without additional cod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Recommend creating a subclass of XFRX’s XFRXfrmPreview form class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Multiple Reports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In versions before 11.1, the generic preview form shows an example of running two hard coded reports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Using the aRpts2Run array of the Report Object makes using multiple reports in the container generic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Other Considerations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c6a"/>
                </a:solidFill>
                <a:latin typeface="Trebuchet MS"/>
              </a:rPr>
              <a:t>Scoping considerations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c6a"/>
                </a:solidFill>
                <a:latin typeface="Trebuchet MS"/>
              </a:rPr>
              <a:t>Combining landscape and portrait reports in combination with your own listener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oMyListener = CREATEOBJECT("MyListenerClass"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loMyListener.IsSuccessor = .T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rebuchet MS"/>
              </a:rPr>
              <a:t>loXFRXListener = xfrx("XFRX#LISTENER"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000000"/>
                </a:solidFill>
                <a:latin typeface="Trebuchet MS"/>
              </a:rPr>
              <a:t>loXFRXListener.Successor = loMyListener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PORT FORM (toRptObject.aRpts2Run[lnRpt,1]) ; OBJECT loXFRXListener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Preview Properties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c6a"/>
                </a:solidFill>
                <a:latin typeface="Trebuchet MS"/>
              </a:rPr>
              <a:t>ShowStatus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urns second toolbar on or off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c6a"/>
                </a:solidFill>
                <a:latin typeface="Trebuchet MS"/>
              </a:rPr>
              <a:t>ibook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-1 = Disable bookmark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0 = Enable bookmarks but hide them (users need to click on the bookmark button to see them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1 = Enable bookmarks, always showing them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2 = Enable bookmarks, but show or hide them automatically based on whether or not there are bookmark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84c6a"/>
                </a:solidFill>
                <a:latin typeface="Trebuchet MS"/>
              </a:rPr>
              <a:t>Printing Challenges with ability to change printer properties</a:t>
            </a:r>
            <a:endParaRPr b="0" lang="en-US" sz="4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c6a"/>
                </a:solidFill>
                <a:latin typeface="Trebuchet MS"/>
              </a:rPr>
              <a:t>Printing with native VFP from preview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hallenge of calculating selected page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age breaks are different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c6a"/>
                </a:solidFill>
                <a:latin typeface="Trebuchet MS"/>
              </a:rPr>
              <a:t>Use XFRX 10.2 or later for PrintDocument method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efault form allows selection of printer and pages onl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Hook into Print method of container to add functionalit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c6a"/>
                </a:solidFill>
                <a:latin typeface="Trebuchet MS"/>
              </a:rPr>
              <a:t>Learning DocumentProperties API,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rebuchet MS"/>
                <a:hlinkClick r:id="rId2"/>
              </a:rPr>
              <a:t>DevMode</a:t>
            </a:r>
            <a:r>
              <a:rPr b="0" lang="en-US" sz="2800" spc="-1" strike="noStrike">
                <a:solidFill>
                  <a:srgbClr val="284c6a"/>
                </a:solidFill>
                <a:latin typeface="Trebuchet MS"/>
              </a:rPr>
              <a:t> and 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rebuchet MS"/>
                <a:hlinkClick r:id="rId3"/>
              </a:rPr>
              <a:t>Window.H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30T21:29:58Z</dcterms:created>
  <dc:creator>3M HIS</dc:creator>
  <dc:description/>
  <dc:language>en-US</dc:language>
  <cp:lastModifiedBy>Barbara Peisch</cp:lastModifiedBy>
  <dcterms:modified xsi:type="dcterms:W3CDTF">2005-09-23T06:31:31Z</dcterms:modified>
  <cp:revision>30</cp:revision>
  <dc:subject/>
  <dc:title>Slide 1</dc:title>
</cp:coreProperties>
</file>