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790A-3783-41F2-85CC-F85709876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A716-1D42-4D53-B3AD-C7C4909094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65D8-A24D-4832-AE08-2850F3790D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8A49-975B-4200-9E50-25DFCFD21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10B-BC09-49DD-AC3E-9BB830BF4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D385-5789-4AD5-8364-9987EF8773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ABE9-BBA4-4B6E-AAEF-28F82A1A4D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5CAB-5C4C-4827-A222-CAD38E801D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8B20-93ED-4A42-9777-8D754045F7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E398-1905-4858-8098-6499348139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5C8D-81FA-4965-8DB0-EC1584242B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109F-042E-4073-B46D-DF1E8892F1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0FFE-44DC-42EF-AD02-859FA9E523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DF2F-63D6-4BA5-9DA6-355FA06894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BEC7-16B4-42DE-B87D-E261FB8020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D35E-660F-482E-BC72-735AA417C8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7A3E-DB06-44F4-A76A-E3D3AB04DC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FC99-9F25-4277-B4AD-C446AEB7B5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2477-3522-40B1-8641-75EEBB5937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DD5-210F-4377-B1C8-F9792879B8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FE7C-B64C-4709-9946-1B355525DD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8491-D30D-4FCA-BBAE-DAE3EC00DE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0A21-19A2-4EEC-B509-B9EFC2EAF2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624C-C1A7-40FF-946B-4D4CB264B4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A792-66C7-48B0-B12B-192030122F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CB9F-4BCA-49BF-B093-F44E0D709E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7C3D-CB6F-49B3-94F7-C951F9D6B7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668B-A980-4AA7-A155-6B8B43E28C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8B61-7493-4C42-8D05-6620938EB6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7DF-50E0-4771-A0A1-277AF818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943-79EE-4CEB-A39B-76DBA494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F02-4031-434B-A926-4453723A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444-7DF1-4E02-9D16-E180DD8C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101D-E9DE-4D59-89D6-2FCF2BF8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1D09-A53A-4BB1-9029-A2065A76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0461-EE1F-4B45-AA2F-47BA2854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D788-E8DD-4B04-9135-39C75592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7DF7-C850-4FFE-927A-533C5D60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9D3B-7601-49E7-9886-9675FEB3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6741-D79C-49B1-8732-783D2257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64F-3C9C-41DE-BE3C-36FDE16F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F179-171B-4073-A40D-67CBAAD0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F2BF-97D1-4529-BF44-539E929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E89C-C6A2-48F5-9E54-9348A1DB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FF6D-BA97-40AD-93C0-653A6DF0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DE49-5F1A-46B5-9E9F-8D8CDAA7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9EF-98CA-4EBE-BDA6-B1611F03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9A3-FF22-4F58-A1B4-3B298BA9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BBB-F640-4501-84E2-81492B94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4B7-EE2A-4529-A815-7B2EBEC4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AF2-AF76-43DA-BD3F-27FF70F0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EB7-097F-4F59-A41F-9545A35F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B35-8B9A-4467-B8DC-25B9E7C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FAEF-1CBB-44C2-ACC1-F12BE2D7A1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0" descr="TamarSWFoxBanner_Wide"/>
          <p:cNvPicPr/>
          <p:nvPr/>
        </p:nvPicPr>
        <p:blipFill>
          <a:blip r:embed="rId2"/>
          <a:stretch/>
        </p:blipFill>
        <p:spPr>
          <a:xfrm>
            <a:off x="6172200" y="5791320"/>
            <a:ext cx="2571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TamarSWFoxBanner_Wide"/>
          <p:cNvPicPr/>
          <p:nvPr/>
        </p:nvPicPr>
        <p:blipFill>
          <a:blip r:embed="rId2"/>
          <a:stretch/>
        </p:blipFill>
        <p:spPr>
          <a:xfrm>
            <a:off x="6172200" y="5791320"/>
            <a:ext cx="257184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C6D1-EC24-43B4-A748-133965B146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Overview of WMI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Windows Management Instrumentation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bara Pe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isch Custom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I Service – Part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ning by defa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or stop WMI w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 START WINMGMT or NET STOP WINMGM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WMI.JPG"/>
          <p:cNvPicPr/>
          <p:nvPr/>
        </p:nvPicPr>
        <p:blipFill>
          <a:blip r:embed="rId1"/>
          <a:stretch/>
        </p:blipFill>
        <p:spPr>
          <a:xfrm>
            <a:off x="2438280" y="2971800"/>
            <a:ext cx="381024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I Service – Part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matically make sure WMI is ru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The following line will start the service if it's not run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and is set to manual or automati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It will fail if the service is disabl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WMI = GETOBJECT('WinMgmts:'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SAGEBOX("WMI is running. You may proceed."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SAGEBOX("WMI isn't running"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mespa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s created by Windo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set security to control access to each name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WMI classes belong to a name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ault namespace is \root\cimv2 and has most of the classes you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I System Clas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lled 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intrinsic event class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sed on CIM structu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llow monitoring of other WMI class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utomatically created for each namespace in the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ass names start with double undersco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yntax is more complex (we’ll cover it later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trinsic Event Clas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within a specific “provid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xtrinsic event cla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much simp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MOF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I “Providers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egories of tasks available through WMI. Some examples of providers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 Directory Prov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ance Monitoring Prov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ssion Provider (for managing network sess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 Registry Prov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32 Prov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few Win32 Provider Clas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761760"/>
            <a:ext cx="822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25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in32_BIOS – For reading BIOS settings on your computer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25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in32_ComputerShutdownEvent – To detect when your computer is shutting down and the kind of shutdown requested (User log-off, complete shutdown or restart)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25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in32_ComputerSystem – Has all sorts of information about your computer, including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The manufacturer and model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hether or not you’ve enabled daylight savings tim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hether or not the button on the front of your computer lets you reboot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hether or not there’s an infrared port on your computer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Name of the workgroup for this computer (if any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Many, many other items too numerous to list her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25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in32_DefragAnalysis – Information about how fragmented your disk drive i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25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in32_Fan – Information about the cooling fan in your computer like when it was installed and what its last error code was and what its current status i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 WMI Query Syntax for Extrinsic Clas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MI = GETOBJECT('WinMgmts:'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MyResults = loWMI.ExecQuery('Select * from WMIClassName'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come back in a documented structure unique to each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n32_Product Class (Windows).mht and demo(“ShowProducts”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ling WMI Metho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1440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WMI = GETOBJECT('WinMgmts:'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cPrinter = GETPRINTER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OT EMPTY(lcPrin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cQuery = "Select * from Win32_Printer where Caption = '"+lcPrinter+"'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Printers = loWMI.ExecQuery(lcQue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EACH loPrinter IN loPrin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loPrinter.Pause()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SSAGEBOX(lcPrinter+" has been paused.",64,"Success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SSAGEBOX(lcPrinter+" could not be paused.",48,"Failure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I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F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la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WMI methods have an iFlags para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osition of this parameter v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ation for flags refers to constants which are in Wbemdisp.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bout 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 of Peisch Custom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ing SW Fox spea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soft MV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g out on Foxite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r columnist for FoxTalk an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er in Fox since 19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ynchron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rogram will wait until results are returned before continu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ynchron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rogram execution continues while WMI request is processing. Objects are returned to a SWbemSink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misynchrono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Like asynchronous,  Program will continue while query is running, but results returned to calling program instead of sink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to Specify Mo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ples so far have been Semisynchronou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 commands that support Asynchronous mode, add Async to command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ecQueryAsyn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ecNotificationQueryAsyn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 wbemFlagReturnWhenComplete flag for Synchronous mod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pturing Windows Ev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apture Windows events we u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 Class (Intrinsic Event Cla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ynchronous c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mo(“catchprintevent”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– Configuration - Namespa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ype wmimgmt.msc in Start…Ru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ight-click on icon on left and choose Proper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on Security tab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lect a namespace and click Security butt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rmissions are inherited from Root. Click Advanced if you want special permiss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– Configuration – Remote Us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dcomcnfg in Start…R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d Component Services and Compu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ht-click on My Computer and choose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on the COM Security t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on the Edit Limits button in both Access Permissions and Launch and Activation Permissions to specify rights for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– When calling WM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’t do anything in WMI you wouldn’t have permissions for norm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of specifying Impersonation and Authentication setting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WMI = GetObject("WinMgmts:{impersonationLevel=impersonate," +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authenticationLevel=pktPrivacy}" +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!\\.\root\cimv2"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ing a Remote Compu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Admin rights on the local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know a valid username and password on the remote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using older syntax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WMILocator = createobject("WbemScripting.SWbemLocator"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WMIServices = oWMILocator.ConnectServer(ComputerName,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Space, UserName, Password, Locale, Authority, Flags)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…RemoteDemo.p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topics I haven’t cover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MI for OD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msdn.microsoft.com/en-us/library/aa393647(VS.85).asp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ing your own provid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ttp://msdn.microsoft.com/en-us/library/cc512238(VS.85).asp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ttp://msdn.microsoft.com/en-us/library/aa389276(VS.85).asp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MI can be overwhelming, but it’s very powerf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links in the white paper as a launching po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62120" y="3434400"/>
            <a:ext cx="7635600" cy="1657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to fill out your evalu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ssion slides, white paper, and code sampl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l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upd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MI bas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ing a local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turing Windows ev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ing a remote ser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WM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s yo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y anything you want about a system’s hardware or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itor all aspects of system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 scripts and call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ccess either local or remote mach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good tutorial on WMI from a VFP perspecti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23520"/>
            <a:ext cx="82296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art Dunkeld has done quite a bit with WMI and has blogged about it. Here is a page that references each of the blog entrie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ttp://weblogs.foxite.com/stuartdunkeld/archive/category/1007.asp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DN has all the info you need bu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’s scattered across many, many top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’s hard to find—doesn’t always show up in a search the way you’d exp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hite paper has many links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ony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hite paper has links for each of the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WMI – Windows Management Instrumentatio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IM – Common Information Model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DL – Interface Definition Language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OF – Managed Object Format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WBEM – Web-Based Enterprise Management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WQL – WMI Query Language. The syntax of WMI querie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S Limit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le since Windows 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ows 98/NT/ME may need installation of core (link in white pap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y implemented with Windows 2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ll classes/functionality available in every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.H Fi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dn.microsoft.com has lots of documentation for W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ation often references .h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h files are hard to find! The best source is in Visual Stu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Alloatti provided win32_ap_includes.zip with all .h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2:52:36Z</dcterms:created>
  <dc:creator>Barbara Peisch</dc:creator>
  <dc:description/>
  <cp:keywords/>
  <dc:language>en-US</dc:language>
  <cp:lastModifiedBy>Demo</cp:lastModifiedBy>
  <dcterms:modified xsi:type="dcterms:W3CDTF">2008-10-17T18:46:06Z</dcterms:modified>
  <cp:revision>48</cp:revision>
  <dc:subject>Southwest Fox 2008</dc:subject>
  <dc:title>Your Title Goes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33</vt:lpwstr>
  </property>
</Properties>
</file>