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63FC-0B99-4A69-837E-E120D480C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A3CA-C0C5-472A-B527-087B2F1BC1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E5D3-A155-4E36-ADDE-97C9C87138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AB86-693D-448D-99D9-386549464A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7FA0-764A-47AF-A081-81555DAC7C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1D1E-E30D-4EF6-82BE-A712C44F5D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9FA-9147-4760-86FB-25A603E1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2DA-84D7-4E62-9F16-59DFF27B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308-130A-4E3B-828A-276FB282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46B-9593-4299-BD04-4CF44820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C47C-E18C-4321-A5F0-E3894864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40F-604F-491E-865C-4BBD5A7F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0853-0B59-4D92-AE2C-1CBEE565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487-D3D2-4141-8D80-802B98C6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62A3-EC5F-4386-9064-80F17423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0138-8CF6-4087-94D3-76424260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E275-EBE7-4B18-8A60-558D144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AB6-F57C-482E-84DE-C51EC974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A1CA-5F77-4892-BFFD-475AC255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2606-F9E3-47D1-8F4A-B5B768C0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779E-0818-4974-A239-644416B5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AE21-E835-4571-B47B-7F1EED03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9DCE-1328-42AB-9647-B144B019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1B3-B9CA-4D5B-9841-02FA9044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8CE-B541-485C-A825-4D70B3F0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BA1-0D4A-436C-9606-1BE1BEB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AC1-95EA-4E3D-89C5-109B4813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D54-FFCB-4A80-A20E-A031F8DD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0B0-DEFF-4491-95B7-8C74DD0E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DE3-1CD2-403D-9BC1-2AB2843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9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A790-9BA2-452A-9E84-7BBE84D94A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5257800"/>
            <a:ext cx="8229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9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SWFoxBanner2011_Wide_NO_DiscountBlurb_Animated"/>
          <p:cNvPicPr/>
          <p:nvPr/>
        </p:nvPicPr>
        <p:blipFill>
          <a:blip r:embed="rId2"/>
          <a:stretch/>
        </p:blipFill>
        <p:spPr>
          <a:xfrm>
            <a:off x="6172200" y="5791320"/>
            <a:ext cx="257184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79B3-0B92-4065-A118-3C138D7E08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evinragsdale@charter.ne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It’s so, uh, </a:t>
            </a:r>
            <a:r>
              <a:rPr b="0" i="1" lang="en-US" sz="4400" spc="-1" strike="noStrike">
                <a:solidFill>
                  <a:srgbClr val="e9d1cc"/>
                </a:solidFill>
                <a:latin typeface="Tahoma"/>
              </a:rPr>
              <a:t>gray</a:t>
            </a: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…” – Tips &amp; Tricks to Improve Your UI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Kevin Ragsda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log: http://kevinragsdale.ne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kevin@kevinragsdale.ne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Phone: 931-409-9899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witter: @KevinRagsda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319040" y="4680"/>
            <a:ext cx="66294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143000" y="11160"/>
            <a:ext cx="6781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839880" y="0"/>
            <a:ext cx="73152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ip #2: Windows Guideline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143000"/>
            <a:ext cx="815328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Microsoft UX Guide: 823 pages of standard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Respect the users Windows Setting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31896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d1cc"/>
                </a:solidFill>
                <a:latin typeface="Tahoma"/>
              </a:rPr>
              <a:t>Colors</a:t>
            </a:r>
            <a:endParaRPr b="0" lang="en-US" sz="24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31896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d1cc"/>
                </a:solidFill>
                <a:latin typeface="Tahoma"/>
              </a:rPr>
              <a:t>Fonts</a:t>
            </a:r>
            <a:endParaRPr b="0" lang="en-US" sz="24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If you do only </a:t>
            </a:r>
            <a:r>
              <a:rPr b="0" i="1" lang="en-US" sz="2800" spc="-1" strike="noStrike">
                <a:solidFill>
                  <a:srgbClr val="e9d1cc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 thing: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Respect the users</a:t>
            </a:r>
            <a:br>
              <a:rPr sz="4400"/>
            </a:b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indows setting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31896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d1cc"/>
              </a:solidFill>
              <a:latin typeface="Tahoma"/>
            </a:endParaRPr>
          </a:p>
          <a:p>
            <a:pPr lvl="2" marL="74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olors and VFP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143000"/>
            <a:ext cx="815328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Visual FoxPro provides all the power we need for colors (BackColor, ForeColor, etc.)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  <a:p>
            <a:pPr lvl="1" marL="743040" indent="-34308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d1cc"/>
              </a:solidFill>
              <a:latin typeface="Tahoma"/>
            </a:endParaRPr>
          </a:p>
          <a:p>
            <a:pPr lvl="2" marL="800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838080" y="11160"/>
            <a:ext cx="74041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762120" y="27000"/>
            <a:ext cx="75438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647640" y="0"/>
            <a:ext cx="769644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ip: Use VFP’s Default Settings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f you use the Default colors, VFP will use the “Default” colors for the current Windows them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07880" y="2895480"/>
            <a:ext cx="372276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3647880" cy="270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5334120" y="2514600"/>
            <a:ext cx="36385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aveat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s is NOT a “Best Practices” sess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session does not match the description, exactly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 if I change the color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VFP will “force” the color (192,192,192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72456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2747880" y="2076480"/>
            <a:ext cx="3648240" cy="270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3"/>
          <a:stretch/>
        </p:blipFill>
        <p:spPr>
          <a:xfrm>
            <a:off x="5105520" y="2433600"/>
            <a:ext cx="36385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Yuck! Set it back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f you re-enter the “default” in the Properties sheet, the “default” becomes the “forced” color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Use “Reset to Default”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14320" y="0"/>
            <a:ext cx="80010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371600" y="0"/>
            <a:ext cx="61722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Font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ry to use the Windows system fon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XP – Tahoma, 8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Vista, Windows 7 – Segoe UI, 9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ach instance should “know” which font to us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oes the user want </a:t>
            </a:r>
            <a:r>
              <a:rPr b="0" lang="en-US" sz="3600" spc="-1" strike="noStrike">
                <a:solidFill>
                  <a:srgbClr val="e9d1cc"/>
                </a:solidFill>
                <a:latin typeface="Tahoma"/>
              </a:rPr>
              <a:t>Large Fonts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Pick a font, and stick to it, exclusively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Is your app DPI-aware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Users may select a higher DPI (larger fonts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ach visual should be resized, moved, and re-anchored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ustom control (cusResizer) – drop on a form and it does all the resizin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PI-awar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indows Vista and 7 use DPI-virtualiz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You must tell Vista and 7 that your app is “DPI Aware” in your app’s manifes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Once you do that, no virtualization – but, you are responsible for resizin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heme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y’re here to stay, so get used to them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9d1cc"/>
                </a:solidFill>
                <a:latin typeface="Tahoma"/>
              </a:rPr>
              <a:t>Except when they’re not there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– so be ready for that, too! (Windows Classic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on’t mix Themes = .T. and Themes = .F. between controls on the same form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olors/Skinning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Judicious use of colors – try to stick to the users’ Windows setting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No need for a different BackColor on every form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kinning? N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Navigation overload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300 records in a tab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oolbar (First, Previous, Next, Last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uttons (First, Previous, Next, Last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ry a custom control to handle navigation for smaller recordset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How important is UI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o our users, the UI </a:t>
            </a:r>
            <a:r>
              <a:rPr b="1" i="1" lang="en-US" sz="3200" spc="-1" strike="noStrike">
                <a:solidFill>
                  <a:srgbClr val="e9d1cc"/>
                </a:solidFill>
                <a:latin typeface="Tahoma"/>
              </a:rPr>
              <a:t>IS  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application.”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- Jeff Atwood, Coding Horror Blo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ith great power comes great responsibility.” – Uncle Ben Park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MESSAGEBOX()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re you sure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ally sure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ally,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really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sure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You’re on the first (or last) record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Limit the interruptions!!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ick tip: stop the bleeding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ome form controls (checkbox, optionbox) “bleed” when Themes = .T. and they’re clicked on more than on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101680" y="3505320"/>
            <a:ext cx="49672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ick tip: stop the bleeding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ome form controls (checkbox, optionbox) “bleed” when Themes = .T. and they’re clicked on more than on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ake background Opaque (not always attractive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s.Caption = This.Cap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ick tip: Vista/7/8 and Aer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How do I get my forms to display with Aero effects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esktop = .T.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est when used with top-level main form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ick tip: Forcing black tex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f you have a control that must have a black RGB(0,0,0) forecolor (or backcolor), subclass the control and set the color to RGB(2,2,2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Humans can’t see the difference, but FoxPro know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ustom Control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Visual cue textbox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Hyperlink label and contain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Visual cue textbox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reate your own “visual cue” text box with a few properties and method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423720" y="2590920"/>
            <a:ext cx="8469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Hyperlink container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hy not just a blue label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ontain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ommand Button (needed for focus, hot key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Fading form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ake forms fade in/out, with Windows API calls and a timer contro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UI </a:t>
            </a:r>
            <a:r>
              <a:rPr b="0" i="1" lang="en-US" sz="3200" spc="-1" strike="noStrike">
                <a:solidFill>
                  <a:srgbClr val="e9d1cc"/>
                </a:solidFill>
                <a:latin typeface="Tahoma"/>
              </a:rPr>
              <a:t>is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the applic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xPro has powerful capabilities to create a compelling, modern, and elegant UI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Human natur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98" name="Content Placeholder 6" descr=""/>
          <p:cNvPicPr/>
          <p:nvPr/>
        </p:nvPicPr>
        <p:blipFill>
          <a:blip r:embed="rId1"/>
          <a:stretch/>
        </p:blipFill>
        <p:spPr>
          <a:xfrm>
            <a:off x="3003480" y="1295280"/>
            <a:ext cx="313704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’s in a name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icrosoft Visual FoxPr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 love the name (you probably do, too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o the outside world, there are many negatives (it’s old, it’s ugly, etc.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628880" cy="236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4819680" cy="32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2100240" y="1913040"/>
            <a:ext cx="4943520" cy="14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ip #1: Lose the VFP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move references to Visual FoxPro from your app (error-handling becomes critically important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cons, MESSAGEBOX(), etc.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app name does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have to include the words Fox, Foxy, Visual or Pr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Visual Foxy Accounting Pr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’s an ugly app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838080" y="27000"/>
            <a:ext cx="73915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1080" y="-11160"/>
            <a:ext cx="6934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6:27:53Z</dcterms:created>
  <dc:creator>Kevin Ragsdale</dc:creator>
  <dc:description/>
  <dc:language>en-US</dc:language>
  <cp:lastModifiedBy>Kevin Ragsdale</cp:lastModifiedBy>
  <dcterms:modified xsi:type="dcterms:W3CDTF">2014-04-17T03:55:44Z</dcterms:modified>
  <cp:revision>62</cp:revision>
  <dc:subject/>
  <dc:title>“It’s so, uh, gray.” – Tips &amp; Tricks to Improve Your U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33</vt:lpwstr>
  </property>
</Properties>
</file>